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8.wmf" ContentType="image/x-wmf"/>
  <Override PartName="/ppt/media/image30.png" ContentType="image/png"/>
  <Override PartName="/ppt/media/image24.jpeg" ContentType="image/jpeg"/>
  <Override PartName="/ppt/media/image23.wmf" ContentType="image/x-wmf"/>
  <Override PartName="/ppt/media/image18.wmf" ContentType="image/x-wmf"/>
  <Override PartName="/ppt/media/image26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5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35.wmf" ContentType="image/x-wmf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977-E542-4982-9227-FC2C20AC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6A2-529A-40C1-AF29-E92ED33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8A1-4446-4277-824E-6D752C35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CC2-AB80-4426-AB9C-B1058DC6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B929-DADD-4B39-A7A4-5111C010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C46B-2FA8-4E69-A62D-F2D1BD00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A036-C59E-4D46-8A71-B9DA394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F8B-2746-4F9D-93C2-FA197B3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C9C2-E5F8-4D18-85A0-93317FB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006A-B396-4BAE-A484-B853BF28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FF1-9A12-4FD8-A1C6-03A2B1D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A5A-6F31-4CC9-A401-37D210A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393C-E051-4253-89DB-9027764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7E64-FAA0-4248-852B-59713CB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E8F-CA34-45A3-BD5C-BA6219E6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C0D5-8376-4649-A31E-2EDC4992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C5B9-EE4E-4384-B7D9-A78824F5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FCD-E0C0-491D-81DE-EBAED4D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071-BBC9-4799-809B-B4724E55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367-C276-4049-B9D7-2DFB6EC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AC-E609-4D45-875B-924EAE2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019-E05D-4F15-8022-0E64F9A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C83-9DC3-46FA-BA55-7DED93D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38C-EF2D-40B3-A64C-730FF554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422-8666-4B8B-861E-EEAB58D45F6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A241-584D-4266-B2C7-30725549A565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The Masses of Atom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3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5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Mass Numbers and Symbols of Isotop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5903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neutrons in isotopes vary, thus isotopes have different mass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and neutrons are called nucleons due to their location in the nucleu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s number (A) is the sum of the relative masses of the nucleon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neutrons can be easily calculated by subtracting the mass number from the atomic numbe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7272360" cy="22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19800" y="1700280"/>
            <a:ext cx="25732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47-4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Relative Mass Sca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by Thomson and Chadwick led to the current accepted masses of subatomic particl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alues are far to small to be useful in a laboratory – therefore we use a relative mass scale based on carbon-12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isotopic mass (RIM) of each element can therefore be used in comparison to carbon-12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50920" y="3906720"/>
            <a:ext cx="626580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804000" y="3933720"/>
            <a:ext cx="172404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elative Atomic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282160" cy="4062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Units of the Relative Mass Scale / RA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though not a SI unit, chemists use the symbol u (or amu) for relative ma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u = 1/12 the mass of carbon-12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lternative unit is the dalton (Da), which was named after John Dalt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te. Until 1961, the constant was based on oxygen-16, not carbon-12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ass of an element is dependent on the mass and abundance of it’s isotopes presen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ass of an element is therefore a weighted mea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eighted mean of the masses of the isotopes of an element on a scale which carbon-12 is 12 is known as the relative atomic mass (RAM) of the elemen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ymbol for RAM is A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Isotopic composition of some common element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920000" cy="4753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 Spectrum Analysi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3456000" cy="482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65440" y="141300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2a00"/>
                </a:solidFill>
                <a:latin typeface="Arial"/>
              </a:rPr>
              <a:t>Mass spectrum of atomic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2a00"/>
                </a:solidFill>
                <a:latin typeface="Arial"/>
              </a:rPr>
              <a:t>chlorin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3311640" cy="475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1628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A simplified ma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spectrum of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magnesiu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65160" y="404640"/>
            <a:ext cx="7999560" cy="626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620040" y="3213000"/>
            <a:ext cx="19843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tomic Mass Examp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0978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1 – There are 3 isotop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2 – Abundance = peak height/total peak heigh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4 = 39/47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5 = 4/47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5 = 4/4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3 – The X shows the predicted RA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4 – Multiply abundance by mass for each isotop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Mg) = 39/47x24 + 4/47x25 + 4/47x26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= 24.3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34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360" y="148428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351640" cy="511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RAM and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tomic Weights and Tabl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856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uracy in Chemistry is vital when measuring substanc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invention of measuring scales enabled more accuracy in scientific resear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Dalton proposed that atoms could be compared with each by order of ma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s form of measurement is known as a relative scale (ie. How heavy atoms are relative to other atom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ver time, tables of atomic weights were devis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26, Jons Berzelius a table of 50 known elemen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rzelius purified, analysed and weighed more than 2000 compounds over a 10 year period.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61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zeliu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12000" y="5565600"/>
            <a:ext cx="107496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11 on P. 54-55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65964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elative Molecular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185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nowing the mass of elements, we can calculate the relative mass of molecu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molecular mass [RMM] (Symbol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mean mass of one molecule relative to carbon-12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76327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Calculating Relative Molecular Mas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7773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.0 x 2 = 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6.0 x 2 = 3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2.0 + 16.0 x 2 =44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) = 1.0 x 2 + 16.0 = 18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4.0 + 1.0 x 3 = 17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2.0 x 5 + 1.0 x 12 = 7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705672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2 on P. 5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oretical Percentage Compositi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44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etical percentage composition by mass of a compound gives us the percentage by mass each element contribut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element = relative mass of element / relative mass of molecule or compound x 1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H = 2/18 x 100 = 11.1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O = 16/18 x 100 = 88.9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716360" y="1844640"/>
          <a:ext cx="4105440" cy="20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844640"/>
                    <a:ext cx="410544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pplying Percentage Compositi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447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can also be translated to mass instead of percenta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g of water for example is made up of 11.1g hydrogen and 88.9g oxyge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4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61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424720" cy="4705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10 on P. 64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Berzelius’s Atomic Weight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8007480" cy="41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eight and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489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ss (m) – How heavy any object is relative to 1 kilogram (kg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g. A 60kg person is 60 times as heavy as a 1 kg objec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ass of an atom is based on the sum of its subatomic particl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greater the number of particles, the heavier the atom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ight (W) – Is a measure the gravitational force acting on an objec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ce is measured in Newtons (N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 earth, objects experience 9.8N/k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g. A 60kg person has a weight of 588N on the earth’s surfac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international system of units such as m, W and N are called SI uni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505320" cy="42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6021360"/>
            <a:ext cx="2627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ternational prototype, made of platinum-iridium, for 1 kg.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. 1kg = 1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Isotop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12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uranium and thorium found that different forms of these elements exist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time, they thought that new elements were being form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 in 1913 Fredrick Soddy, termed these different elements isotop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chemically identic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746840" y="189000"/>
            <a:ext cx="117000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740720" y="2349360"/>
            <a:ext cx="1095480" cy="1368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4836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dd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128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6767640" cy="303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308720" y="3860640"/>
            <a:ext cx="1656000" cy="280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7708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Mass Spectra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097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ntion of the mass spectrograph by British scientist Francis Aston enabled chemists to isolate each isotope by mass and abundanc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versions of the instrument are called mass spectromete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put of these instruments is termed mass spect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21600" y="189000"/>
            <a:ext cx="768240" cy="107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93080" y="83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799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547640" y="5734080"/>
            <a:ext cx="583884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fusing Evidenc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0629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of Rutherford concluded that the nucleus of an atom contained positively charged particles called proton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gen has one proton, whereas Helium has two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mass of Helium was four times the mass of Hydrogen – not doubl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incorrectly predicted that the nucleus must also contain electrons to allow for the difference in mas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432108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966960" cy="12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528720" cy="2351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2916360" y="5805000"/>
            <a:ext cx="32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165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known to Rutherfor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scovering the Neutr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540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n’t until 1932, that James Chadwick proved that a neutrally particle called neutrons exist in the nucleu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wick’s experiments investigated the effects of alpha particles on a sample of Berylliu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 some of the particles were not deflected by magnetic or electrical field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cluded that some particles have no charge. These particles within the atom are called neu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wick also measured the relative mass of neu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867280" y="1413000"/>
            <a:ext cx="3016440" cy="41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32720" y="566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wic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ummary of Sub-atomic Particl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46840" cy="306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3:13:42Z</dcterms:created>
  <dc:creator>DE&amp;T User</dc:creator>
  <dc:description/>
  <dc:language>en-US</dc:language>
  <cp:lastModifiedBy>DE&amp;T User</cp:lastModifiedBy>
  <dcterms:modified xsi:type="dcterms:W3CDTF">2008-02-12T01:27:01Z</dcterms:modified>
  <cp:revision>30</cp:revision>
  <dc:subject/>
  <dc:title>An Introduction to Chemistry</dc:title>
</cp:coreProperties>
</file>